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46304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8B2-A6A2-4C7C-B6CC-A2921518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63421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5CC-E119-4D49-B46D-83560618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9C7-9439-4605-BAB3-FA57E1ED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25603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6342120"/>
            <a:ext cx="423936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F89-08A0-488C-A194-6963E35C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3D6-EB14-4B89-8345-DAA69384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498-85F9-4EC4-B66E-83BBAA9C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C9B-3E1F-410B-BFBF-1C917E87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4D8-E632-403F-BE61-FAC36C5C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439560"/>
            <a:ext cx="1316664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27F-1F96-40C2-8AE6-263E02A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C5A-A3A9-42A8-A2CE-D3956ECF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63421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876-2321-49A7-B25E-A03D9759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2560320"/>
            <a:ext cx="642528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6342120"/>
            <a:ext cx="13166640" cy="34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CD0-C09C-456F-9C64-B656627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439560"/>
            <a:ext cx="1316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2560320"/>
            <a:ext cx="13166640" cy="72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9991800"/>
            <a:ext cx="3413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9991800"/>
            <a:ext cx="4632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9991800"/>
            <a:ext cx="3413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64E-F38A-4857-986F-EEEAB3E25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753160" y="419040"/>
            <a:ext cx="4495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Times New Roman"/>
              </a:rPr>
              <a:t>Ой  шақыру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397160" y="1144440"/>
            <a:ext cx="1183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Бұл суреттер НЕЛЕ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rot="1890000">
            <a:off x="2552400" y="3428640"/>
            <a:ext cx="252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құлшылық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ету, сиын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tempimage24"/>
          <p:cNvPicPr/>
          <p:nvPr/>
        </p:nvPicPr>
        <p:blipFill>
          <a:blip r:embed="rId2"/>
          <a:stretch/>
        </p:blipFill>
        <p:spPr>
          <a:xfrm>
            <a:off x="2768760" y="2577960"/>
            <a:ext cx="2412720" cy="237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3543480" y="7365960"/>
            <a:ext cx="1777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мұсылм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empimage26"/>
          <p:cNvPicPr/>
          <p:nvPr/>
        </p:nvPicPr>
        <p:blipFill>
          <a:blip r:embed="rId3"/>
          <a:stretch/>
        </p:blipFill>
        <p:spPr>
          <a:xfrm>
            <a:off x="2971800" y="5118120"/>
            <a:ext cx="2502000" cy="2882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8204040" y="3365640"/>
            <a:ext cx="29592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Құран, діни кітап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empimage28"/>
          <p:cNvPicPr/>
          <p:nvPr/>
        </p:nvPicPr>
        <p:blipFill>
          <a:blip r:embed="rId4"/>
          <a:stretch/>
        </p:blipFill>
        <p:spPr>
          <a:xfrm>
            <a:off x="7950240" y="2590920"/>
            <a:ext cx="346716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 rot="108000">
            <a:off x="8140320" y="6527520"/>
            <a:ext cx="2793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 </a:t>
            </a:r>
            <a:r>
              <a:rPr b="1" i="1" lang="ru-RU" sz="2700" spc="-1" strike="noStrike">
                <a:solidFill>
                  <a:srgbClr val="004000"/>
                </a:solidFill>
                <a:latin typeface="Times New Roman"/>
              </a:rPr>
              <a:t>Алланың  үй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tempimage210"/>
          <p:cNvPicPr/>
          <p:nvPr/>
        </p:nvPicPr>
        <p:blipFill>
          <a:blip r:embed="rId5"/>
          <a:stretch/>
        </p:blipFill>
        <p:spPr>
          <a:xfrm>
            <a:off x="7759800" y="5473800"/>
            <a:ext cx="402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"/>
          <p:cNvPicPr/>
          <p:nvPr/>
        </p:nvPicPr>
        <p:blipFill>
          <a:blip r:embed="rId1"/>
          <a:stretch/>
        </p:blipFill>
        <p:spPr>
          <a:xfrm>
            <a:off x="0" y="82440"/>
            <a:ext cx="14630400" cy="1097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tempimage51"/>
          <p:cNvPicPr/>
          <p:nvPr/>
        </p:nvPicPr>
        <p:blipFill>
          <a:blip r:embed="rId2"/>
          <a:stretch/>
        </p:blipFill>
        <p:spPr>
          <a:xfrm>
            <a:off x="5689440" y="1460520"/>
            <a:ext cx="254016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892160" y="4241880"/>
            <a:ext cx="104522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Құран Кәрім - мұсылман  қауымының  қасиетті кіта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Құранда  Алла  тағаланың  атынан  айтылат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өсиет- өнегел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екі  дүниелік ереже -қағидалар  жинақталған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095560" y="7518240"/>
            <a:ext cx="11150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9:48:52Z</dcterms:created>
  <dc:creator>Admin</dc:creator>
  <dc:description/>
  <dc:language>en-US</dc:language>
  <cp:lastModifiedBy>Admin</cp:lastModifiedBy>
  <dcterms:modified xsi:type="dcterms:W3CDTF">2017-03-12T17:20:3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3000000000001024110</vt:lpwstr>
  </property>
</Properties>
</file>